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0.wmf" ContentType="image/x-wmf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6.wmf" ContentType="image/x-wmf"/>
  <Override PartName="/ppt/media/image3.jpeg" ContentType="image/jpeg"/>
  <Override PartName="/ppt/media/image15.png" ContentType="image/png"/>
  <Override PartName="/ppt/media/image2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146480" y="0"/>
            <a:ext cx="316728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5680" y="718920"/>
            <a:ext cx="4803840" cy="36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146480" y="9118080"/>
            <a:ext cx="3167280" cy="4813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2546912-B1BF-468D-A6D0-043FF5293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E889BF7-1897-4E6D-8C52-E218D4997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CBCDDCB-1461-4428-877A-EB8525882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7D5F965-6811-4C8D-AB1C-C7E79521A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5324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A37D015-A499-4570-B3F6-54B7F1B87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1932734-8086-475C-B1E4-F9B9D8B1F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is represented of what you find in chapter 6 of the junior assessment framework document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ectations are clustered and the distribution of item types are allocated across the five different strands of the mathematics curricul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ach box is a cluster You see that in the first cluster both MC and OR questions are listed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nal column shows you the total possible raw score points.- MC 1 point each; the 3 OR questions, each given 4 po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questions allow us to see a range of responses e.g. reading responses on open response questions are scored on a 4 point scale  10,20,30,40 (40 the highe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 questions have only one correct answer; however as discussed earlier, questions are written to a specific level of achievement so we can discriminate between level 1-2, level 2-3, level 3-4; thus all MC can’t be considered equal in level of diffi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istribution is so that we have engagement of all students 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our large scale assessment, our goal is to report on all students who write the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a question is designed, there are a number of considerations right down to question placement on the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xample, if I’m a student writing the assessment and I try to answer questions and I’m struggling with all of them, I’m going to close the book and disengage; therefore, it is important to have a distribution across all achievement levels and to disperse questions carefully (don’t want to start your assessment with 2 or 3 of your most difficult ques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where the involvement of practicing classroom teachers in each step of the test design is so crit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C6DCD05-0FB7-474C-A33F-EB690A685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5C74E12-6E2E-497B-9B99-6B40885EE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D30F800-7938-4C1C-89C9-A7634724E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3BD1053-4035-40BC-9FBB-2C5997874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8CDA330-CCCB-4841-A9DE-67AC9906E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F7629DF-EBA2-446D-ABF2-9F7BABDC4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69EA4C6-922A-48C0-B6A4-EE1E22AED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FCC2BE4-9615-49B4-94B3-937864D6C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2660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ince there is a choice of tools to decide if the relationship is lin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 LR2.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86965C1-FA25-4758-AF29-F1BF0DC67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1729454-CA2E-4EBE-AFB5-2E291C2B4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2D37EFA-9091-4CBC-9536-CE3ADD9D3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76F1C14-6158-452F-A472-5F7F51AE5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CABA9FA-143F-4EC3-9786-8F79CD988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3DE2C23-F874-4349-AFC3-16CD65945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5CC1E54-B429-40CB-B81D-A0EB6FEF9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A8D925D-CF9D-4016-BA7C-811DA06BF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7ECABF7-9003-4425-A4EF-77F25E500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0DEFE4E-4F6F-4086-98E0-BBF289700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00A2181-9FFF-49E4-A71E-FE3C900EB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D4E58A0-4085-4694-9F1F-6616CB1A5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D7BDD48-122C-4892-8526-0F81416F8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4B086D4-EDA4-43D3-9B69-20C1903D6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803840" cy="36018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18440"/>
            <a:ext cx="3167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42A8454-73F2-4216-A955-77CAF3015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4591-FB01-4C22-8A0C-0D3F384E6A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84042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5640"/>
            <a:ext cx="84042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4005-F746-4849-A723-9C765521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6352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564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63520" y="381564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B6B9-81F3-4FEE-A62D-1744717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8320" y="128916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9800" y="128916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564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8320" y="381564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9800" y="3815640"/>
            <a:ext cx="27057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B102-A458-4277-A0C3-C60E747D3F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289160"/>
            <a:ext cx="8404200" cy="48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2EBF-A7B3-4DBF-AEB8-4461BD49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84042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D7FA-75FB-4DF5-A3B1-E22D6210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41011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63520" y="1289160"/>
            <a:ext cx="41011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EEF3-3FE6-46ED-A185-530F4655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EFFD6-E5F4-4D8C-8033-370DF165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1120" y="102960"/>
            <a:ext cx="83566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1645-1535-447B-874C-C9559BB1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3520" y="1289160"/>
            <a:ext cx="41011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564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FF6C-FDEC-461F-AEC9-45C7C1EF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41011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352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63520" y="381564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395D3-D865-4522-BF8E-0F986CB4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3520" y="1289160"/>
            <a:ext cx="41011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5640"/>
            <a:ext cx="84042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73AE-F51E-40F7-A960-958AF21A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c003f"/>
          </a:solidFill>
          <a:ln w="9360">
            <a:solidFill>
              <a:srgbClr val="9c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542D-F9E4-40AE-BB25-EC6A08A1845F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7"/>
          <p:cNvSpPr/>
          <p:nvPr/>
        </p:nvSpPr>
        <p:spPr>
          <a:xfrm>
            <a:off x="490680" y="766800"/>
            <a:ext cx="8381880" cy="0"/>
          </a:xfrm>
          <a:prstGeom prst="line">
            <a:avLst/>
          </a:prstGeom>
          <a:ln w="9360">
            <a:solidFill>
              <a:srgbClr val="9c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6840" y="1289160"/>
            <a:ext cx="84042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119160" indent="-119160">
              <a:spcBef>
                <a:spcPts val="400"/>
              </a:spcBef>
              <a:buClr>
                <a:srgbClr val="000000"/>
              </a:buClr>
              <a:buFont typeface="Gill Sans M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119160" indent="-119160">
              <a:spcBef>
                <a:spcPts val="400"/>
              </a:spcBef>
              <a:buClr>
                <a:srgbClr val="006a8a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19160" indent="-119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19160" indent="-119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5" marL="119160" indent="-119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6" marL="119160" indent="-119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4940280" y="647640"/>
            <a:ext cx="4059360" cy="27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c003f"/>
                </a:solidFill>
                <a:latin typeface="Gill Sans MT"/>
              </a:rPr>
              <a:t>Dufferin-Peel  CDS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003f"/>
                </a:solidFill>
                <a:latin typeface="Gill Sans MT"/>
              </a:rPr>
              <a:t>November 10</a:t>
            </a:r>
            <a:r>
              <a:rPr b="1" lang="en-US" sz="2000" spc="-1" strike="noStrike" baseline="30000">
                <a:solidFill>
                  <a:srgbClr val="9c003f"/>
                </a:solidFill>
                <a:latin typeface="Gill Sans MT"/>
              </a:rPr>
              <a:t>th</a:t>
            </a:r>
            <a:r>
              <a:rPr b="1" lang="en-US" sz="2000" spc="-1" strike="noStrike">
                <a:solidFill>
                  <a:srgbClr val="9c003f"/>
                </a:solidFill>
                <a:latin typeface="Gill Sans MT"/>
              </a:rPr>
              <a:t>, 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1416-AAF2-4618-BFA8-CCC611263736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EQAO_Logo_eng_sml"/>
          <p:cNvPicPr/>
          <p:nvPr/>
        </p:nvPicPr>
        <p:blipFill>
          <a:blip r:embed="rId1"/>
          <a:stretch/>
        </p:blipFill>
        <p:spPr>
          <a:xfrm>
            <a:off x="5068800" y="336600"/>
            <a:ext cx="1246320" cy="696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6084720"/>
            <a:ext cx="9144000" cy="7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-15840" y="4021200"/>
            <a:ext cx="4834080" cy="2803320"/>
          </a:xfrm>
          <a:prstGeom prst="rect">
            <a:avLst/>
          </a:prstGeom>
          <a:solidFill>
            <a:srgbClr val="9c00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Sandy  Di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 Lead 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y Gil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 Officer Grad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4992840" y="4019400"/>
            <a:ext cx="3960720" cy="0"/>
          </a:xfrm>
          <a:prstGeom prst="line">
            <a:avLst/>
          </a:prstGeom>
          <a:ln w="9360">
            <a:solidFill>
              <a:srgbClr val="9c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954680" y="4248000"/>
            <a:ext cx="40687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QAO Assess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Grade 9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ange-F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7656480" y="5353200"/>
          <a:ext cx="1387440" cy="9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56480" y="5353200"/>
                    <a:ext cx="138744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5" descr="MPj03997470000[1]"/>
          <p:cNvPicPr/>
          <p:nvPr/>
        </p:nvPicPr>
        <p:blipFill>
          <a:blip r:embed="rId4"/>
          <a:srcRect l="4475" t="0" r="8028" b="0"/>
          <a:stretch/>
        </p:blipFill>
        <p:spPr>
          <a:xfrm>
            <a:off x="0" y="0"/>
            <a:ext cx="4821120" cy="39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D007-F1AD-472A-AEA5-99A15D1F817A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95120" y="316080"/>
            <a:ext cx="71485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7863"/>
                </a:solidFill>
                <a:latin typeface="Gill Sans MT"/>
              </a:rPr>
              <a:t>Purpose of the Grade 9</a:t>
            </a:r>
            <a:br>
              <a:rPr sz="3200"/>
            </a:br>
            <a:r>
              <a:rPr b="1" lang="en-US" sz="3200" spc="-1" strike="noStrike">
                <a:solidFill>
                  <a:srgbClr val="867863"/>
                </a:solidFill>
                <a:latin typeface="Gill Sans MT"/>
              </a:rPr>
              <a:t>Mathematics Assessments?</a:t>
            </a:r>
            <a:endParaRPr b="0" lang="en-US" sz="32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21840" y="1677600"/>
            <a:ext cx="677412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ess students and report yearly data on the level at which students are meeting curriculum expectations in the grade 9 Academic and Applied Mathematics cours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port for individuals, schools, boards and the provinc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16AC-76EE-4859-9DDF-E2F40F95AD7F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71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Grade 9 Assessments of Mathematics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00400" y="787320"/>
            <a:ext cx="48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7863"/>
                </a:solidFill>
                <a:latin typeface="Gill Sans MT"/>
              </a:rPr>
              <a:t>Technical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701640" y="1387440"/>
            <a:ext cx="7981920" cy="2127240"/>
            <a:chOff x="701640" y="1387440"/>
            <a:chExt cx="7981920" cy="2127240"/>
          </a:xfrm>
        </p:grpSpPr>
        <p:sp>
          <p:nvSpPr>
            <p:cNvPr id="123" name="Text Box 6"/>
            <p:cNvSpPr/>
            <p:nvPr/>
          </p:nvSpPr>
          <p:spPr>
            <a:xfrm>
              <a:off x="701640" y="2689200"/>
              <a:ext cx="2003400" cy="8254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Multiple Cho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7"/>
            <p:cNvGrpSpPr/>
            <p:nvPr/>
          </p:nvGrpSpPr>
          <p:grpSpPr>
            <a:xfrm>
              <a:off x="2704680" y="1387440"/>
              <a:ext cx="5978880" cy="1989720"/>
              <a:chOff x="2704680" y="1387440"/>
              <a:chExt cx="5978880" cy="1989720"/>
            </a:xfrm>
          </p:grpSpPr>
          <p:sp>
            <p:nvSpPr>
              <p:cNvPr id="125" name="Text Box 8"/>
              <p:cNvSpPr/>
              <p:nvPr/>
            </p:nvSpPr>
            <p:spPr>
              <a:xfrm>
                <a:off x="6246720" y="2917440"/>
                <a:ext cx="2436840" cy="4597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Arial"/>
                  </a:rPr>
                  <a:t>Open Respon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9"/>
              <p:cNvSpPr/>
              <p:nvPr/>
            </p:nvSpPr>
            <p:spPr>
              <a:xfrm flipH="1">
                <a:off x="4470480" y="1906200"/>
                <a:ext cx="1440" cy="35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0"/>
              <p:cNvSpPr/>
              <p:nvPr/>
            </p:nvSpPr>
            <p:spPr>
              <a:xfrm flipH="1">
                <a:off x="2704680" y="2669760"/>
                <a:ext cx="1738440" cy="392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4417920" y="2660400"/>
                <a:ext cx="1819440" cy="49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2"/>
              <p:cNvSpPr/>
              <p:nvPr/>
            </p:nvSpPr>
            <p:spPr>
              <a:xfrm>
                <a:off x="3214800" y="1387440"/>
                <a:ext cx="2511360" cy="58140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3200" spc="-1" strike="noStrike">
                    <a:solidFill>
                      <a:srgbClr val="000000"/>
                    </a:solidFill>
                    <a:latin typeface="Arial"/>
                  </a:rPr>
                  <a:t>ITEM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3"/>
              <p:cNvSpPr/>
              <p:nvPr/>
            </p:nvSpPr>
            <p:spPr>
              <a:xfrm>
                <a:off x="3799080" y="2249280"/>
                <a:ext cx="1341360" cy="4597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Arial"/>
                  </a:rPr>
                  <a:t>Typ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1" name="Picture 3" descr=""/>
          <p:cNvPicPr/>
          <p:nvPr/>
        </p:nvPicPr>
        <p:blipFill>
          <a:blip r:embed="rId1"/>
          <a:srcRect l="0" t="0" r="0" b="52864"/>
          <a:stretch/>
        </p:blipFill>
        <p:spPr>
          <a:xfrm>
            <a:off x="328680" y="3852720"/>
            <a:ext cx="8612280" cy="24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EC95-0047-4006-A20D-EAC6744BF552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j0399560"/>
          <p:cNvPicPr/>
          <p:nvPr/>
        </p:nvPicPr>
        <p:blipFill>
          <a:blip r:embed="rId1"/>
          <a:stretch/>
        </p:blipFill>
        <p:spPr>
          <a:xfrm>
            <a:off x="488880" y="912960"/>
            <a:ext cx="2976480" cy="4300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5830920" y="1638360"/>
            <a:ext cx="29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a8a"/>
                </a:solidFill>
                <a:latin typeface="Gill Sans MT"/>
              </a:rPr>
              <a:t>EQAO Blue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0920" y="217440"/>
            <a:ext cx="8593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Linking EQAO Data to</a:t>
            </a:r>
            <a:br>
              <a:rPr sz="4400"/>
            </a:br>
            <a:r>
              <a:rPr b="0" i="1" lang="en-US" sz="4400" spc="-1" strike="noStrike">
                <a:solidFill>
                  <a:srgbClr val="867863"/>
                </a:solidFill>
                <a:latin typeface="Gill Sans MT"/>
              </a:rPr>
              <a:t>The Ontario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008600" y="3363840"/>
            <a:ext cx="473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8a"/>
                </a:solidFill>
                <a:latin typeface="Gill Sans MT"/>
              </a:rPr>
              <a:t>What Does the Assessment Blueprin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BC17-564F-45BB-8D0B-B4E0F594B8A2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-1241280" y="131760"/>
            <a:ext cx="10372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7863"/>
                </a:solidFill>
                <a:latin typeface="Gill Sans MT"/>
              </a:rPr>
              <a:t>Sample from the Grade 9 Applied Bluepr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4"/>
          <p:cNvSpPr/>
          <p:nvPr/>
        </p:nvSpPr>
        <p:spPr>
          <a:xfrm>
            <a:off x="3638520" y="6000840"/>
            <a:ext cx="55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mary and Junior Framework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rcRect l="0" t="0" r="0" b="12486"/>
          <a:stretch/>
        </p:blipFill>
        <p:spPr>
          <a:xfrm>
            <a:off x="173160" y="851040"/>
            <a:ext cx="882972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9734-81BD-47EF-B416-1BBC680005DC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82760" y="1636560"/>
            <a:ext cx="82026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 blueprin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velop each year’s assessment so that the assessments always have the sam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map each multiple-choice and open-response question on the assessment to individual expectations or groups of curriculum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identify which questions will be used to distinguish performances at each of the levels of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50920" y="217440"/>
            <a:ext cx="85932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Linking EQAO Data to</a:t>
            </a:r>
            <a:br>
              <a:rPr sz="4400"/>
            </a:br>
            <a:r>
              <a:rPr b="0" i="1" lang="en-US" sz="4400" spc="-1" strike="noStrike">
                <a:solidFill>
                  <a:srgbClr val="867863"/>
                </a:solidFill>
                <a:latin typeface="Gill Sans MT"/>
              </a:rPr>
              <a:t>The Ontario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51D2-15F5-44A5-8AFC-22566D280A60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425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Are There Separate Questions  for Every Expectation?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96560" y="1804680"/>
            <a:ext cx="731700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ions are allocated to clusters of expectations on the blueprin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ions are developed to address a specific expectation within the cluste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om year to year, different expectations are addressed from the cluste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28840" y="166320"/>
            <a:ext cx="66657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Italicized Expectations 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9720" y="1279440"/>
            <a:ext cx="802152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on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 appropriately assessed on a large scale assessmen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" name="Picture 16" descr=""/>
          <p:cNvPicPr/>
          <p:nvPr/>
        </p:nvPicPr>
        <p:blipFill>
          <a:blip r:embed="rId1"/>
          <a:stretch/>
        </p:blipFill>
        <p:spPr>
          <a:xfrm>
            <a:off x="406440" y="272880"/>
            <a:ext cx="1152360" cy="64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rcRect l="0" t="0" r="9061" b="0"/>
          <a:stretch/>
        </p:blipFill>
        <p:spPr>
          <a:xfrm>
            <a:off x="465120" y="3786120"/>
            <a:ext cx="8229600" cy="1220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485640" y="2550960"/>
            <a:ext cx="8229600" cy="774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498600" y="2178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s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8"/>
          <p:cNvSpPr/>
          <p:nvPr/>
        </p:nvSpPr>
        <p:spPr>
          <a:xfrm>
            <a:off x="4305240" y="2693880"/>
            <a:ext cx="1513080" cy="15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346040" y="3773520"/>
            <a:ext cx="7382160" cy="129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68160" y="85680"/>
            <a:ext cx="823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867863"/>
                </a:solidFill>
                <a:latin typeface="Gill Sans MT"/>
              </a:rPr>
              <a:t>Levels of Difficulty and 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11280" y="1209600"/>
            <a:ext cx="809928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c003f"/>
                </a:solidFill>
                <a:latin typeface="Gill Sans MT"/>
              </a:rPr>
              <a:t>Multiple-choice questions are developed and used to distinguish performance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sy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tinguish between Level 1 and 2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forma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dium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tinguish between Level 2 and 3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form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llenging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tinguish between Level 3 and 4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form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1481040" y="1627200"/>
            <a:ext cx="6191280" cy="33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s of four categorie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ledge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062000" y="825480"/>
            <a:ext cx="819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chievement Chart provid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198360" y="235080"/>
            <a:ext cx="1152720" cy="644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3"/>
          <p:cNvSpPr/>
          <p:nvPr/>
        </p:nvSpPr>
        <p:spPr>
          <a:xfrm>
            <a:off x="4211640" y="330120"/>
            <a:ext cx="5181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egories of 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42551" t="33576" r="26182" b="12407"/>
          <a:stretch/>
        </p:blipFill>
        <p:spPr>
          <a:xfrm>
            <a:off x="6516720" y="3936960"/>
            <a:ext cx="155412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096920" y="1128600"/>
            <a:ext cx="766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nowledge and Understanding -  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52600" y="1920600"/>
            <a:ext cx="81356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720" rIns="90000" tIns="152280" bIns="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1448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se items require students to demonstr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11448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bject specific content (knowled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11448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omprehension of its meaning and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gnificance (understa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847800" y="5194440"/>
            <a:ext cx="58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.g. use the Pythagorean Theorem to find the length of the missing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4211640" y="330120"/>
            <a:ext cx="5181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egories of 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tretch/>
        </p:blipFill>
        <p:spPr>
          <a:xfrm>
            <a:off x="314280" y="284040"/>
            <a:ext cx="1152720" cy="644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2"/>
          <a:srcRect l="42551" t="33576" r="26182" b="12407"/>
          <a:stretch/>
        </p:blipFill>
        <p:spPr>
          <a:xfrm>
            <a:off x="7175520" y="3954600"/>
            <a:ext cx="119376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506-0A4B-4BBC-A406-DC08D921E897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86960" y="88560"/>
            <a:ext cx="8177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Agenda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2480" y="1002960"/>
            <a:ext cx="657864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lcome and Introd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ade 9 EQAO Assessm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eak   10:00 a.m. – 10:15a.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 to Range-Fin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unch  11:30 p.m. – 12:15 p.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Finding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eak      2:00p.m. – 2:15 p.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ring of Results from Range-Finding Activit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664000" y="1065240"/>
            <a:ext cx="36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ing - 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712800" y="2102400"/>
            <a:ext cx="793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se items require student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and sequence a variety of tools to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monstrate a critical-think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answer the ques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udents need to make a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460040" y="37296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egories of 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314280" y="284040"/>
            <a:ext cx="1152720" cy="64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rcRect l="42551" t="33576" r="26182" b="12407"/>
          <a:stretch/>
        </p:blipFill>
        <p:spPr>
          <a:xfrm>
            <a:off x="6877080" y="4403880"/>
            <a:ext cx="119376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662360" y="411120"/>
            <a:ext cx="42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 of 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197000" y="1847520"/>
            <a:ext cx="703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items require student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he appropriate “tool” or get 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cessary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“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t” it to the proble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Determine the amount of soup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ylindrical can co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2388960" y="74448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pplication - 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314280" y="284040"/>
            <a:ext cx="1152720" cy="644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rcRect l="42551" t="33576" r="26182" b="12407"/>
          <a:stretch/>
        </p:blipFill>
        <p:spPr>
          <a:xfrm>
            <a:off x="7674120" y="4735440"/>
            <a:ext cx="119376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160640" y="100656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What’s the difference between KU and AP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98320" y="2406960"/>
            <a:ext cx="810432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f you tell the student what procedure to perform then the skill is usually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f the student must decide what procedure to perform then the skill is usually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P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 the context is integral to the item.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314280" y="284040"/>
            <a:ext cx="1152720" cy="644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4170240" y="385920"/>
            <a:ext cx="5705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egories of 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58800" y="334800"/>
            <a:ext cx="57056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7863"/>
                </a:solidFill>
                <a:latin typeface="Verdana"/>
              </a:rPr>
              <a:t>Categories of the Achievement Chart</a:t>
            </a:r>
            <a:endParaRPr b="0" lang="en-US" sz="18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27080" y="2349000"/>
            <a:ext cx="74772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nything to do with the problem-solving process is Thinking (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PS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selection and fitting of a single mathematical tool is Application (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P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f the student needs to make a plan, th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tem is Thinking (PS)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353880" y="260280"/>
            <a:ext cx="1152720" cy="6447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1459080" y="855720"/>
            <a:ext cx="68846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What’s the difference betw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S and 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04880" y="282600"/>
            <a:ext cx="55148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867863"/>
                </a:solidFill>
                <a:latin typeface="Arial"/>
              </a:rPr>
              <a:t>Name the Category </a:t>
            </a:r>
            <a:br>
              <a:rPr sz="2900"/>
            </a:br>
            <a:r>
              <a:rPr b="0" lang="en-CA" sz="2400" spc="-1" strike="noStrike">
                <a:solidFill>
                  <a:srgbClr val="867863"/>
                </a:solidFill>
                <a:latin typeface="Arial"/>
              </a:rPr>
              <a:t>Multiple-Choice Example</a:t>
            </a:r>
            <a:endParaRPr b="0" lang="en-US" sz="24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190" name="Picture 17" descr=""/>
          <p:cNvPicPr/>
          <p:nvPr/>
        </p:nvPicPr>
        <p:blipFill>
          <a:blip r:embed="rId1"/>
          <a:stretch/>
        </p:blipFill>
        <p:spPr>
          <a:xfrm>
            <a:off x="239760" y="257040"/>
            <a:ext cx="1208160" cy="675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0" y="3233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716880" y="1063800"/>
            <a:ext cx="22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9999"/>
                </a:solidFill>
                <a:latin typeface="Arial"/>
              </a:rPr>
              <a:t>Academic Spring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1343160" y="1008000"/>
            <a:ext cx="4105080" cy="52596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1"/>
          <p:cNvSpPr/>
          <p:nvPr/>
        </p:nvSpPr>
        <p:spPr>
          <a:xfrm>
            <a:off x="4917960" y="3867120"/>
            <a:ext cx="390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NA1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derive, through the investigation and examination of patterns, the exponent rules for multiplying and dividing monomials, and apply these rules in expressions involving one and two variables with positive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9789-788F-4042-A12F-D31D3390E441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2487600" y="4946760"/>
            <a:ext cx="1492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487680" y="33480"/>
            <a:ext cx="55152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700" spc="-1" strike="noStrike">
                <a:solidFill>
                  <a:srgbClr val="867863"/>
                </a:solidFill>
                <a:latin typeface="Arial"/>
              </a:rPr>
              <a:t>Name the Category </a:t>
            </a:r>
            <a:br>
              <a:rPr sz="2400"/>
            </a:br>
            <a:r>
              <a:rPr b="0" lang="en-CA" sz="2000" spc="-1" strike="noStrike">
                <a:solidFill>
                  <a:srgbClr val="867863"/>
                </a:solidFill>
                <a:latin typeface="Arial"/>
              </a:rPr>
              <a:t>Multiple-Choic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67863"/>
                </a:solidFill>
                <a:latin typeface="Arial"/>
              </a:rPr>
              <a:t>Academic Winter 20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tretch/>
        </p:blipFill>
        <p:spPr>
          <a:xfrm>
            <a:off x="942840" y="1596960"/>
            <a:ext cx="5548320" cy="36432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1"/>
          <p:cNvSpPr/>
          <p:nvPr/>
        </p:nvSpPr>
        <p:spPr>
          <a:xfrm>
            <a:off x="5810400" y="3218040"/>
            <a:ext cx="301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NA 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substitute into and evaluate algebraic expressions involving exponents (i.e., evaluate expressions involving natural-number exponents with rational-number bases [e.g., evaluate (3/2)</a:t>
            </a:r>
            <a:r>
              <a:rPr b="0" lang="en-US" sz="1800" spc="-1" strike="noStrike" baseline="30000">
                <a:solidFill>
                  <a:srgbClr val="0e41d2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 by hand and 9.83 by using a calculator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60320" y="282600"/>
            <a:ext cx="63594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867863"/>
                </a:solidFill>
                <a:latin typeface="Arial"/>
              </a:rPr>
              <a:t>Name the Category</a:t>
            </a:r>
            <a:br>
              <a:rPr sz="4000"/>
            </a:br>
            <a:r>
              <a:rPr b="0" lang="en-CA" sz="2400" spc="-1" strike="noStrike">
                <a:solidFill>
                  <a:srgbClr val="867863"/>
                </a:solidFill>
                <a:latin typeface="Arial"/>
              </a:rPr>
              <a:t>Multiple-Choice Example</a:t>
            </a:r>
            <a:endParaRPr b="0" lang="en-US" sz="24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201" name="Picture 17" descr=""/>
          <p:cNvPicPr/>
          <p:nvPr/>
        </p:nvPicPr>
        <p:blipFill>
          <a:blip r:embed="rId1"/>
          <a:stretch/>
        </p:blipFill>
        <p:spPr>
          <a:xfrm>
            <a:off x="239760" y="257040"/>
            <a:ext cx="1208160" cy="675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0" y="3233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400800" y="1063800"/>
            <a:ext cx="25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9999"/>
                </a:solidFill>
                <a:latin typeface="Arial"/>
              </a:rPr>
              <a:t>Academic Spring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2"/>
          <a:stretch/>
        </p:blipFill>
        <p:spPr>
          <a:xfrm>
            <a:off x="549360" y="1160640"/>
            <a:ext cx="4038480" cy="50194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1"/>
          <p:cNvSpPr/>
          <p:nvPr/>
        </p:nvSpPr>
        <p:spPr>
          <a:xfrm>
            <a:off x="5416560" y="1925640"/>
            <a:ext cx="309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LR2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e41d2"/>
                </a:solidFill>
                <a:latin typeface="Arial"/>
              </a:rPr>
              <a:t>identify, through investigation, some properties of linear relations (i.e., numerically, the first difference is a constant, which represents a constant rate of change; graphically, a straight line represents the relation), and apply these properties to determine whether a relation is linear or non-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581040" y="1131840"/>
            <a:ext cx="8097840" cy="511812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5BFB-61F2-4A3E-AA06-F39F476ADF2A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333360" y="260280"/>
            <a:ext cx="1152720" cy="6447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6960" y="28548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Scoring Open-Response </a:t>
            </a:r>
            <a:br>
              <a:rPr sz="2400"/>
            </a:br>
            <a:r>
              <a:rPr b="0" lang="en-US" sz="2400" spc="-1" strike="noStrike">
                <a:solidFill>
                  <a:srgbClr val="867863"/>
                </a:solidFill>
                <a:latin typeface="Arial"/>
              </a:rPr>
              <a:t> Applied Spring 2009</a:t>
            </a:r>
            <a:endParaRPr b="0" lang="en-US" sz="2400" spc="-1" strike="noStrike">
              <a:solidFill>
                <a:srgbClr val="86786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193760" y="1477800"/>
            <a:ext cx="68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8720" y="2077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7863"/>
                </a:solidFill>
                <a:latin typeface="Arial"/>
              </a:rPr>
              <a:t>4 CODES OF PERFORMANCE</a:t>
            </a:r>
            <a:endParaRPr b="0" lang="en-US" sz="4000" spc="-1" strike="noStrike">
              <a:solidFill>
                <a:srgbClr val="86786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88880" y="1749240"/>
            <a:ext cx="6443640" cy="32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Level  4: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thorough/high degree</a:t>
            </a:r>
            <a:br>
              <a:rPr sz="3200"/>
            </a:br>
            <a:r>
              <a:rPr b="1" lang="en-US" sz="2000" spc="-1" strike="noStrike">
                <a:solidFill>
                  <a:srgbClr val="867863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Level  3: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considerable </a:t>
            </a:r>
            <a:br>
              <a:rPr sz="2000"/>
            </a:br>
            <a:br>
              <a:rPr sz="3200"/>
            </a:b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Level  2: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some </a:t>
            </a:r>
            <a:br>
              <a:rPr sz="2000"/>
            </a:br>
            <a:br>
              <a:rPr sz="2000"/>
            </a:b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Level  1: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67863"/>
                </a:solidFill>
                <a:latin typeface="Arial"/>
              </a:rPr>
              <a:t>limited</a:t>
            </a:r>
            <a:endParaRPr b="0" lang="en-US" sz="32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577800" y="311040"/>
            <a:ext cx="1009800" cy="5637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2174760" y="817560"/>
            <a:ext cx="52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vels of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6180120" y="3538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hievemen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2"/>
          <a:srcRect l="42551" t="33576" r="26182" b="12407"/>
          <a:stretch/>
        </p:blipFill>
        <p:spPr>
          <a:xfrm>
            <a:off x="7674120" y="4735440"/>
            <a:ext cx="119376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D404-9127-4134-B63D-8260AAE5C577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	</a:t>
            </a: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	</a:t>
            </a: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EQAO’s Mandate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2160" y="1177560"/>
            <a:ext cx="725328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erlin Sans FB"/>
              </a:rPr>
              <a:t>To provide accurate and valid data about student performance in designated subjec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erlin Sans FB"/>
              </a:rPr>
              <a:t>To educational stakeholders (parents, students, schools, boards and the governmen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erlin Sans FB"/>
              </a:rPr>
              <a:t>To inform classroom instruction and to improve student achievement.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1108080" y="131760"/>
            <a:ext cx="81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eneric Rubric: Mathematics Open-Response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7880" y="647640"/>
          <a:ext cx="8543880" cy="9441000"/>
        </p:xfrm>
        <a:graphic>
          <a:graphicData uri="http://schemas.openxmlformats.org/drawingml/2006/table">
            <a:tbl>
              <a:tblPr/>
              <a:tblGrid>
                <a:gridCol w="924120"/>
                <a:gridCol w="761976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nstration of limited understanding of concepts and/or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of knowledge and skills shows limited effectiveness due 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understanding of con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rrect selection or misuse of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-solving process shows limited effectiveness due 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mal evidence of a solution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ed identification of 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o much emphasis on un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onclusions pres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clusion presented without supporting evide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nstration of some understanding of concepts and/or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of knowledge and skills shows some effectiveness due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tial understanding of the conce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rs and/or omissions in the application of the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-solving process shows some effectiveness due to an incomplete solution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tion of some of the 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understanding of the relationships between 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ple conclusions with little supporting evide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nstration of considerable understanding of concepts and/or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of knowledge and skills shows considerable effectiveness due 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understanding of most of the concepts in spite of minor errors and/or omissions in th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of the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-solving process shows considerable effectiveness due 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solution process that is nearly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tion of most of the 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considerable understanding of the relationships between important elements of th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6676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ropriate conclusions with supporting evide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nstration of thorough understanding of concepts and/or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of knowledge and skills shows a high degree of effectiveness due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thorough understanding of the concep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ccurate application of the procedures (any minor errors and/or omissions do not detrac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om the demonstration of a thorough understand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-solving process shows a high degree of effectiveness due 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 complete solution proc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tion of all important elements of th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thorough understanding of the relationships between all of the important elements of th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2746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ropriate conclusions with  thorough and insightful supporting evide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19" name="Picture 33" descr=""/>
          <p:cNvPicPr/>
          <p:nvPr/>
        </p:nvPicPr>
        <p:blipFill>
          <a:blip r:embed="rId1"/>
          <a:stretch/>
        </p:blipFill>
        <p:spPr>
          <a:xfrm>
            <a:off x="282600" y="160200"/>
            <a:ext cx="73332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2000160" y="361800"/>
            <a:ext cx="5400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ic Rubric: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44520" y="1390680"/>
          <a:ext cx="8493120" cy="5238720"/>
        </p:xfrm>
        <a:graphic>
          <a:graphicData uri="http://schemas.openxmlformats.org/drawingml/2006/table">
            <a:tbl>
              <a:tblPr/>
              <a:tblGrid>
                <a:gridCol w="772920"/>
                <a:gridCol w="77202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19428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demonstration of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onsiderable 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understanding of 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619428"/>
                          </a:solidFill>
                          <a:latin typeface="Verdana"/>
                        </a:rPr>
                        <a:t>concepts and/or proced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application of knowledge and skills shows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onsiderable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effectiveness due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an understanding of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most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 of the concepts in spite of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minor errors and/or omissions in the application of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the proced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problem-solving process shows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onsider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effectiveness due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a solution process that is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nearly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 compl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identification of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most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 of the important elements of 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the prob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considerable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 understanding of the relationships 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between important elements of the prob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Verdana"/>
                        <a:buChar char="•"/>
                        <a:tabLst>
                          <a:tab algn="l" pos="290520"/>
                          <a:tab algn="l" pos="34776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9144000"/>
                          <a:tab algn="l" pos="10058400"/>
                          <a:tab algn="l" pos="103124160"/>
                          <a:tab algn="l" pos="103581360"/>
                        </a:tabLst>
                      </a:pP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7030a0"/>
                          </a:solidFill>
                          <a:latin typeface="Verdana"/>
                        </a:rPr>
                        <a:t>appropriate conclusions with supporting evid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28" descr=""/>
          <p:cNvPicPr/>
          <p:nvPr/>
        </p:nvPicPr>
        <p:blipFill>
          <a:blip r:embed="rId1"/>
          <a:stretch/>
        </p:blipFill>
        <p:spPr>
          <a:xfrm>
            <a:off x="407880" y="314280"/>
            <a:ext cx="13813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581040" y="1131840"/>
            <a:ext cx="8097840" cy="511812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987E-72AD-4D21-9569-89EB430FE048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2"/>
          <a:stretch/>
        </p:blipFill>
        <p:spPr>
          <a:xfrm>
            <a:off x="333360" y="260280"/>
            <a:ext cx="1152720" cy="6447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86960" y="28548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Scoring Open-Response </a:t>
            </a:r>
            <a:br>
              <a:rPr sz="2400"/>
            </a:br>
            <a:r>
              <a:rPr b="0" lang="en-US" sz="2400" spc="-1" strike="noStrike">
                <a:solidFill>
                  <a:srgbClr val="867863"/>
                </a:solidFill>
                <a:latin typeface="Arial"/>
              </a:rPr>
              <a:t> Applied Spring 2009</a:t>
            </a:r>
            <a:endParaRPr b="0" lang="en-US" sz="2400" spc="-1" strike="noStrike">
              <a:solidFill>
                <a:srgbClr val="867863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8F23-1611-4BDF-A5D9-D48498541738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415800" y="0"/>
            <a:ext cx="85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7863"/>
                </a:solidFill>
                <a:latin typeface="Gill Sans MT"/>
              </a:rPr>
              <a:t>Grade 9 Assessment of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506520" y="770040"/>
            <a:ext cx="85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41d2"/>
                </a:solidFill>
                <a:latin typeface="Arial"/>
              </a:rPr>
              <a:t>NA1.05 </a:t>
            </a:r>
            <a:r>
              <a:rPr b="0" lang="en-US" sz="1600" spc="-1" strike="noStrike">
                <a:solidFill>
                  <a:srgbClr val="0e41d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e41d2"/>
                </a:solidFill>
                <a:latin typeface="Arial"/>
              </a:rPr>
              <a:t>solve problems involving ratios, rates, and directly proportional  relationships in </a:t>
            </a:r>
            <a:r>
              <a:rPr b="0" lang="en-US" sz="1600" spc="-1" strike="noStrike">
                <a:solidFill>
                  <a:srgbClr val="0e41d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e41d2"/>
                </a:solidFill>
                <a:latin typeface="Arial"/>
              </a:rPr>
              <a:t>various 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5602320" y="458640"/>
            <a:ext cx="3533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6786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67863"/>
                </a:solidFill>
                <a:latin typeface="Arial"/>
              </a:rPr>
              <a:t>Stacked High Item Specific Rubr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67863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1247760" y="1306440"/>
            <a:ext cx="6923160" cy="52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39600" y="103320"/>
            <a:ext cx="79880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13040" indent="-11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Activity: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113040" indent="-11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13040" indent="-113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onsider the 4 samples of student work shown on the handou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3040" indent="-113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bel them in order from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3040" indent="-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trongest (code 40) to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3040" indent="-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eakest (code 10) performan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3B9A-12BC-46B7-AC03-B86323B76810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4617-CEA5-427D-9F2D-938370DCCA38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120" y="24264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7863"/>
                </a:solidFill>
                <a:latin typeface="Arial"/>
              </a:rPr>
              <a:t>EQAO Website</a:t>
            </a:r>
            <a:br>
              <a:rPr sz="4000"/>
            </a:br>
            <a:r>
              <a:rPr b="0" lang="en-US" sz="2400" spc="-1" strike="noStrike">
                <a:solidFill>
                  <a:srgbClr val="867863"/>
                </a:solidFill>
                <a:latin typeface="Arial"/>
              </a:rPr>
              <a:t>www.eqao.com</a:t>
            </a:r>
            <a:endParaRPr b="0" lang="en-US" sz="24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21528" t="20375" r="22779" b="32047"/>
          <a:stretch/>
        </p:blipFill>
        <p:spPr>
          <a:xfrm>
            <a:off x="1447920" y="1487520"/>
            <a:ext cx="6500520" cy="41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5DDD-3B70-444C-8827-E8991603C75D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rcRect l="0" t="0" r="1639" b="2977"/>
          <a:stretch/>
        </p:blipFill>
        <p:spPr>
          <a:xfrm>
            <a:off x="0" y="0"/>
            <a:ext cx="9144000" cy="64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7AC5-C062-43EB-A1A0-9925EF7309C8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0" t="12683" r="1903" b="5211"/>
          <a:stretch/>
        </p:blipFill>
        <p:spPr>
          <a:xfrm>
            <a:off x="0" y="0"/>
            <a:ext cx="9144000" cy="65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AC00-28C8-4A07-92FD-A1CF34E3EF72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0" y="-9360"/>
            <a:ext cx="9202680" cy="69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BE87-CCA0-433F-A09C-4CFBB676E664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0" t="0" r="1487" b="2185"/>
          <a:stretch/>
        </p:blipFill>
        <p:spPr>
          <a:xfrm>
            <a:off x="0" y="0"/>
            <a:ext cx="9144000" cy="649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100C-81DC-4230-BD69-E7D2A4D2730A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2324160" y="2692440"/>
            <a:ext cx="469800" cy="546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2324160" y="4711680"/>
            <a:ext cx="469800" cy="546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2298600" y="3683160"/>
            <a:ext cx="470160" cy="546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309600"/>
            <a:ext cx="84866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Test Development Process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63840" y="87624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58800" y="2606760"/>
            <a:ext cx="1676520" cy="28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iculum Bluepr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      Spec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257800" y="1155600"/>
            <a:ext cx="0" cy="54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000680" y="17017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6781680" y="172728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5270400" y="2933640"/>
            <a:ext cx="0" cy="332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013200" y="812880"/>
            <a:ext cx="450828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009960" y="1359000"/>
            <a:ext cx="4508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105520" y="1892160"/>
            <a:ext cx="2908080" cy="642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 Development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908440" y="1892160"/>
            <a:ext cx="222228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/Sensitiv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225960" y="2768760"/>
            <a:ext cx="4076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ion of Review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3397320" y="3327480"/>
            <a:ext cx="37591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Test/Data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384720" y="3886200"/>
            <a:ext cx="38098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Item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3429000" y="4419720"/>
            <a:ext cx="369576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orm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3467160" y="4991040"/>
            <a:ext cx="3556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3505320" y="5537160"/>
            <a:ext cx="3429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3606840" y="6058080"/>
            <a:ext cx="32767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ing/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7149960" y="351792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8229600" y="2286000"/>
            <a:ext cx="12600" cy="123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5"/>
          <p:cNvSpPr/>
          <p:nvPr/>
        </p:nvSpPr>
        <p:spPr>
          <a:xfrm flipH="1">
            <a:off x="8026200" y="2286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468360" y="1798560"/>
            <a:ext cx="20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rcRect l="0" t="0" r="1639" b="2977"/>
          <a:stretch/>
        </p:blipFill>
        <p:spPr>
          <a:xfrm>
            <a:off x="0" y="0"/>
            <a:ext cx="9144000" cy="642132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FC80-D337-418D-8F13-A58B7BFF33C4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"/>
          <p:cNvSpPr/>
          <p:nvPr/>
        </p:nvSpPr>
        <p:spPr>
          <a:xfrm>
            <a:off x="-235080" y="3860640"/>
            <a:ext cx="159732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1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8B27-B238-440C-AFAE-9111D1C5CA88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0" t="0" r="1487" b="278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1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3325-088E-498C-AD51-2B71C50CCF2D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rcRect l="0" t="0" r="1487" b="278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53" name="Oval 4"/>
          <p:cNvSpPr/>
          <p:nvPr/>
        </p:nvSpPr>
        <p:spPr>
          <a:xfrm>
            <a:off x="1568520" y="5834160"/>
            <a:ext cx="1816200" cy="6523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84BC-4A2E-4941-9BF0-7B674ACABF10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rcRect l="0" t="0" r="2381" b="2781"/>
          <a:stretch/>
        </p:blipFill>
        <p:spPr>
          <a:xfrm>
            <a:off x="0" y="0"/>
            <a:ext cx="9144000" cy="64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ECF9-826D-4259-A2D6-B487D4EEF91C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Range-Finding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39960" y="1289160"/>
            <a:ext cx="712296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urpos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engage Ontario Educators in preparing a high quality set of scoring tools and training materials for scor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select materials that define and illustrate the range of performances within the codes of the rubri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9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895B-4851-416E-9DAA-D171177EB3EC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9720" y="820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Overview of Procedure: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649520" y="2103120"/>
            <a:ext cx="543240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core Student Samp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ensus score student samples in groups of 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lect anchor pape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2160" indent="-542160">
              <a:spcBef>
                <a:spcPts val="799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e annot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3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4699-F50A-4710-99CB-97C6B6F4A56B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017440" y="62208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Scoring Materials: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03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Gill Sans MT"/>
              </a:rPr>
              <a:t>Anchors Papers: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03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Gill Sans MT"/>
              </a:rPr>
              <a:t>student responses that illustrate the criteria on the rubric for each cod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03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Gill Sans MT"/>
              </a:rPr>
              <a:t>The representative sample – a picture is worth 1000 word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03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103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7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E546-4ED7-4B9E-8D01-4B50EB7E4A9F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44160" y="61704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67863"/>
                </a:solidFill>
                <a:latin typeface="Arial"/>
              </a:rPr>
              <a:t>Generic Rubric: </a:t>
            </a:r>
            <a:br>
              <a:rPr sz="2700"/>
            </a:br>
            <a:r>
              <a:rPr b="1" lang="en-US" sz="2700" spc="-1" strike="noStrike">
                <a:solidFill>
                  <a:srgbClr val="867863"/>
                </a:solidFill>
                <a:latin typeface="Arial"/>
              </a:rPr>
              <a:t>Mathematics Open Response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867863"/>
                </a:solidFill>
                <a:latin typeface="Arial"/>
              </a:rPr>
              <a:t>Items</a:t>
            </a:r>
            <a:br>
              <a:rPr sz="2700"/>
            </a:br>
            <a:endParaRPr b="0" lang="en-US" sz="2600" spc="-1" strike="noStrike">
              <a:solidFill>
                <a:srgbClr val="867863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rcRect l="13890" t="23148" r="20833" b="15741"/>
          <a:stretch/>
        </p:blipFill>
        <p:spPr>
          <a:xfrm>
            <a:off x="735120" y="1143000"/>
            <a:ext cx="7619760" cy="5349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EQAO_Logo_eng_sml"/>
          <p:cNvPicPr/>
          <p:nvPr/>
        </p:nvPicPr>
        <p:blipFill>
          <a:blip r:embed="rId2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381D-A244-4E19-9D15-45C6AA019BED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ode 40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60120" y="1735200"/>
            <a:ext cx="74214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-512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rough, high degre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1800" indent="-512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strong respon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1800" indent="-512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not have to be perf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1800" indent="-512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lly answe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1800" indent="-512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cepts, applications and/or processes are accurate and cle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5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AC34-FCC2-4CCB-BFE7-568052FAA00A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29880" y="609120"/>
            <a:ext cx="261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ode 10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57040" y="1777680"/>
            <a:ext cx="66927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469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mited, minim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spect related to ques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orrect/inaccurate concep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cedures inaccurate/incorr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 supporting evid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46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9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13CF-CB60-4699-A132-9B30A1C74E32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681200" y="1727280"/>
            <a:ext cx="499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867863"/>
                </a:solidFill>
                <a:latin typeface="Gill Sans MT"/>
              </a:rPr>
              <a:t>All questions (items) are developed by Ontario teac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MCj04044130000[1]"/>
          <p:cNvPicPr/>
          <p:nvPr/>
        </p:nvPicPr>
        <p:blipFill>
          <a:blip r:embed="rId1"/>
          <a:stretch/>
        </p:blipFill>
        <p:spPr>
          <a:xfrm>
            <a:off x="6234120" y="4135320"/>
            <a:ext cx="2314440" cy="2127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401920" y="0"/>
            <a:ext cx="638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Test 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C5F4-DA44-41F1-92B4-D467F49D5C54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ode 20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06560" y="1778040"/>
            <a:ext cx="715968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swers only part of ques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monstrates partial understan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ally explained conclu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ttle supporting evid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3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B92B-C14A-4A39-94A8-848EBB36E878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3560" y="7617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Code 30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22040" y="1966680"/>
            <a:ext cx="677052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able, nearly comple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swers most of ques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ains minor errors/omi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12720" indent="-497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ck of cla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7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EA21-A29D-4644-858F-4BAA2C67FE33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18640" y="52344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43040" y="1858680"/>
            <a:ext cx="770400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7720" indent="-628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oklet of ~ 30 samples of student work of mixed performan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47720" indent="-628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em Specific Rubr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47720" indent="-628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ster Consensus Recording She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47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1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DA11-11C7-4B34-ABB9-0E87B23C8C77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-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Detailed Procedure: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9680" y="1176120"/>
            <a:ext cx="85341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core first 5 Student Samples (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YOUR OW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-46800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nsensus score these student sample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-46800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peat #1 and #2 with 10 samples until all 30 are scored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-46800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lect anchor papers, one for each cod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(You may want to pile the samples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-46800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rite descriptions of the attributes of your choic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68000" indent="-46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view anchors for 4 progressive performance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5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CF76-0726-49F2-8883-6CF0D57D0B3E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Descriptions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58400" y="1289160"/>
            <a:ext cx="71024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14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Describe the attributes of the student work that resulted in the code it was give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ry to generalize the code’s attribut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se the language of the item specific rubric to describe the choice of cod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9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E291-7305-405E-A28C-7A265AFD1472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00400" y="61596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Arial"/>
              </a:rPr>
              <a:t>Jobs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79640" y="1817280"/>
            <a:ext cx="7470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76000" indent="-46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ensus Scores Recor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ords scores from all group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212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ords reasons for consensus co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6000" indent="-46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cker:  Tracks anch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6000" indent="-46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ption Wri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6000" indent="-46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 Keep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3" name="Picture 6" descr="EQAO_Logo_eng_sml"/>
          <p:cNvPicPr/>
          <p:nvPr/>
        </p:nvPicPr>
        <p:blipFill>
          <a:blip r:embed="rId1"/>
          <a:stretch/>
        </p:blipFill>
        <p:spPr>
          <a:xfrm>
            <a:off x="266760" y="115920"/>
            <a:ext cx="102384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44680" y="938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a8a"/>
                </a:solidFill>
                <a:latin typeface="Gill Sans MT"/>
              </a:rPr>
              <a:t>Framework Docu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508200" y="1512720"/>
            <a:ext cx="48405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003f"/>
                </a:solidFill>
                <a:latin typeface="Arial"/>
              </a:rPr>
              <a:t>The </a:t>
            </a:r>
            <a:r>
              <a:rPr b="1" lang="en-CA" sz="2400" spc="-1" strike="noStrike">
                <a:solidFill>
                  <a:srgbClr val="9c003f"/>
                </a:solidFill>
                <a:latin typeface="Arial"/>
              </a:rPr>
              <a:t>assessment </a:t>
            </a:r>
            <a:r>
              <a:rPr b="1" lang="en-US" sz="2400" spc="-1" strike="noStrike">
                <a:solidFill>
                  <a:srgbClr val="9c003f"/>
                </a:solidFill>
                <a:latin typeface="Arial"/>
              </a:rPr>
              <a:t>framework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a detailed description of the assessments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rpose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scale vs.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ke-up of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rriculum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cription of sc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33280" y="231840"/>
            <a:ext cx="870588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7863"/>
                </a:solidFill>
                <a:latin typeface="Gill Sans MT"/>
              </a:rPr>
              <a:t>Linking EQAO Data to </a:t>
            </a:r>
            <a:r>
              <a:rPr b="0" i="1" lang="en-US" sz="3600" spc="-1" strike="noStrike">
                <a:solidFill>
                  <a:srgbClr val="867863"/>
                </a:solidFill>
                <a:latin typeface="Gill Sans MT"/>
              </a:rPr>
              <a:t>The Ontario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331920" y="1646280"/>
            <a:ext cx="302580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98CB-2AD8-404A-AEBA-E6BA9F818257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Large-Scale Assessment: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0680" y="1469880"/>
            <a:ext cx="317952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3f"/>
                </a:solidFill>
                <a:latin typeface="Gill Sans MT"/>
              </a:rPr>
              <a:t>Large-Scale Assessm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Another lens to enhance student achievement data analysi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0360" y="1469880"/>
            <a:ext cx="3524400" cy="11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3f"/>
                </a:solidFill>
                <a:latin typeface="Gill Sans MT"/>
              </a:rPr>
              <a:t>Classroom Assessm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e richest source of student achievement d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5" descr="j0299125"/>
          <p:cNvPicPr/>
          <p:nvPr/>
        </p:nvPicPr>
        <p:blipFill>
          <a:blip r:embed="rId1"/>
          <a:stretch/>
        </p:blipFill>
        <p:spPr>
          <a:xfrm>
            <a:off x="1227240" y="2427120"/>
            <a:ext cx="2236680" cy="3668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5181480" y="3173400"/>
            <a:ext cx="236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707000" y="80964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a8a"/>
                </a:solidFill>
                <a:latin typeface="Gill Sans MT"/>
              </a:rPr>
              <a:t>A Value-Adde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MPj04090470000[1]"/>
          <p:cNvPicPr/>
          <p:nvPr/>
        </p:nvPicPr>
        <p:blipFill>
          <a:blip r:embed="rId2"/>
          <a:stretch/>
        </p:blipFill>
        <p:spPr>
          <a:xfrm>
            <a:off x="4824360" y="2503440"/>
            <a:ext cx="3406680" cy="3406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3"/>
          <a:srcRect l="-6962" t="-6209" r="-3468" b="-12372"/>
          <a:stretch/>
        </p:blipFill>
        <p:spPr>
          <a:xfrm>
            <a:off x="1414440" y="2700360"/>
            <a:ext cx="141768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8EA4-E526-42AA-B2A5-22816FD26EAC}" type="slidenum">
              <a:rPr b="1" lang="en-US" sz="14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120" y="102960"/>
            <a:ext cx="835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7863"/>
                </a:solidFill>
                <a:latin typeface="Gill Sans MT"/>
              </a:rPr>
              <a:t>Large-Scale Assessment:</a:t>
            </a:r>
            <a:endParaRPr b="0" lang="en-US" sz="4400" spc="-1" strike="noStrike">
              <a:solidFill>
                <a:srgbClr val="86786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18800"/>
            <a:ext cx="4125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Gill Sans MT"/>
              </a:rPr>
              <a:t>Serving Different Purpo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707000" y="80964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a8a"/>
                </a:solidFill>
                <a:latin typeface="Gill Sans MT"/>
              </a:rPr>
              <a:t>A Value-Adde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8680" y="1407960"/>
          <a:ext cx="8602560" cy="5040360"/>
        </p:xfrm>
        <a:graphic>
          <a:graphicData uri="http://schemas.openxmlformats.org/drawingml/2006/table">
            <a:tbl>
              <a:tblPr/>
              <a:tblGrid>
                <a:gridCol w="4154760"/>
                <a:gridCol w="216000"/>
                <a:gridCol w="4231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rge-Scale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lassroom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 – to provide comparable year-to-year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  - to reports regularly on student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informs improvement planning and targe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provides students with info for self-evaluation and goal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d and scored “at a distan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d and marked by the classroom tea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s a snapshot of student achievement (summat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ered at regular intervals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time (diagnostic, formative, summat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ered, scored and reported in a consistent and standard ma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olves a variety of supports, variation in administration procedures and time allowed, and teacher autonomy in ma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ides the same items for all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119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3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ows for modified items and tasks tailored to needs of individual or groups of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727200" y="1819440"/>
            <a:ext cx="791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QAO’s assessments are large-scale standards-referenced assess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assessments for the Primary and Junior divisions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ade 9 are based on th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Ontario Curriculu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xpectations and the Ministry of Education’s levels of achievement for stude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a8a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OSSLT is based on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ntario Curriculum expectatio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quiring reading and writing across all subjects to the end of grad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330280" y="276120"/>
            <a:ext cx="653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a8a"/>
                </a:solidFill>
                <a:latin typeface="Arial"/>
              </a:rPr>
              <a:t>How Do the Assessments Align with </a:t>
            </a:r>
            <a:r>
              <a:rPr b="1" i="1" lang="en-US" sz="3200" spc="-1" strike="noStrike">
                <a:solidFill>
                  <a:srgbClr val="006a8a"/>
                </a:solidFill>
                <a:latin typeface="Arial"/>
              </a:rPr>
              <a:t>The Ontario Curriculum</a:t>
            </a:r>
            <a:r>
              <a:rPr b="1" lang="en-US" sz="3200" spc="-1" strike="noStrike">
                <a:solidFill>
                  <a:srgbClr val="006a8a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42551" t="33576" r="26182" b="12407"/>
          <a:stretch/>
        </p:blipFill>
        <p:spPr>
          <a:xfrm rot="20322600">
            <a:off x="576000" y="263160"/>
            <a:ext cx="1191960" cy="154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13:10Z</dcterms:created>
  <dc:creator>SmithS</dc:creator>
  <dc:description/>
  <dc:language>en-US</dc:language>
  <cp:lastModifiedBy>dilenas</cp:lastModifiedBy>
  <dcterms:modified xsi:type="dcterms:W3CDTF">2009-11-09T13:58:06Z</dcterms:modified>
  <cp:revision>745</cp:revision>
  <dc:subject/>
  <dc:title>Media Analysis</dc:title>
</cp:coreProperties>
</file>